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C01-9B16-4CB2-AFAB-469B4559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0EC-5CFD-480F-837B-CFDDFE7F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20D-748D-4118-A1EE-4681396D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CE2-3F2D-4A57-8C35-8F252402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5B1-E17E-4289-BDC8-FC45849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407-1164-45EA-887B-3347C7C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02D-21F3-449F-82CB-207822B7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4E0-5F99-479F-BB91-E1ECF265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694-24D0-460A-B724-ACAA7E86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E24-97F6-40E4-8979-74D95C22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6E8-BB56-4F99-9DA9-7561776B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020-9AFF-479D-BAB7-0E21BBF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7BC4-C1C7-4713-8827-FCB373F67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4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ryl’s SAPS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40384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joys of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800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Rational Function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2816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380880"/>
            <a:ext cx="6481800" cy="285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ver the topics of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9718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Multiplication and Division of rational express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Least Common Denominator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676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Locate and discover Vertical Asympto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Seek out the ever mysterious Oblique Asymptot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216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286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Sage advice for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SAPS uni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589800" y="152280"/>
            <a:ext cx="2174760" cy="221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1752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new things! Exp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2514600" cy="169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27432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l all the best ideas! (CASE—copy and steal every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65960" y="3048120"/>
            <a:ext cx="1778040" cy="213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585324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gh a lot!  Have f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your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24280" y="4419720"/>
            <a:ext cx="1538280" cy="1609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41148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e students do most (or all) of the 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676520" y="502920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7:15:54Z</dcterms:created>
  <dc:creator>Jefferson County Public Schools</dc:creator>
  <dc:description/>
  <dc:language>en-US</dc:language>
  <cp:lastModifiedBy>Jefferson County Public Schools</cp:lastModifiedBy>
  <dcterms:modified xsi:type="dcterms:W3CDTF">2009-04-30T17:44:41Z</dcterms:modified>
  <cp:revision>2</cp:revision>
  <dc:subject/>
  <dc:title>Slide 1</dc:title>
</cp:coreProperties>
</file>